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etros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9-21T14:59:34.390000000" idx="1">
    <p:pos x="5567" y="367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3152-5649-4B2D-A7DB-1AF2EBE39AC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A8B-1638-4620-BCB9-0C2F0498FE7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52F-7B19-4DF2-BCA9-AC0BF2DD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C59-2E62-48E5-8EA2-AD420C04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575-1E1D-441F-8B03-68422F23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618-47C4-45BC-B79B-405D2DCF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E3C5-B3ED-48A8-BE17-4212BAA7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644-B06F-47D0-ADAB-FC6D929C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14C0-CDEE-46F5-A3CB-D1631A6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FE28-0ED0-4764-9B69-9F864B38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5C3-CB51-4B18-BE89-E174AFE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075-09C8-4D72-B303-85B6030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76DC-7DE1-40CC-814C-7C3B9EB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864-8E64-4EED-9E75-752CFCE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F36-41A4-497D-B8C9-FF844FE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826-2BA5-41E7-95A9-D55040E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DF8E-D278-40FE-A4C1-E1C5F50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924C-08F3-4871-8ABF-F54C6A4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3F28-F740-43EC-924B-8A823128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D9DE-3D20-44BA-9AE1-ADB62BC8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DAA1-598E-46B1-8BD5-211A706A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09B9-1D92-421C-A7D0-5DC51DCF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5510-62C3-400D-9D19-728F8E79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20EF-A43D-4A52-8CED-7A7C8466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56F-F9DA-4893-AD2D-6254A4E1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0957-3AB5-47D0-80AF-78C66EB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402E-3CF3-4B6A-94DE-C1ADE9B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533E-393D-46AC-937D-90A01B8A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F80E-E0CE-406F-B44B-3B89667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19D7-6CD1-4BCC-A9EA-FC4EEC9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76993-6265-49E4-ADDE-AB32ED33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F122-E565-4440-B082-FAE6D0C7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ABA3-30C9-4CB5-92AC-ABE6973C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2A55-1FD6-4263-92B1-F7D8A1F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529A-EE91-4C81-BC42-E05EBB6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C55-560B-47F7-A74F-D62AF75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B3B8-9CBB-406A-BE1D-1B684F3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1804E-0A64-44D5-8401-333C982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3B26-0C35-4602-8BEB-92DD707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008E-0BCA-4BF9-BD54-03B560D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4729-5005-4EF3-BFE7-AA21B2F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8189B-EAC3-4CD3-AE2C-B964906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0149-DD05-4E9F-BFFC-DCEAAB7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FCED-3978-4675-8A54-FEF8280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84B6-0B2F-41F2-AC05-801A8706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A027-8B21-47BD-8BF8-76834D9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C7D-66FC-40BC-90F3-2EE3D1D8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1882-E4B4-483C-A12E-956F47F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9034-DF13-49CD-93EA-5042C59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BD8D-6FE9-4E83-BEBF-834B7AFF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B2D7-C578-45C2-8069-4972B3F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58009-3FDE-4A47-9E62-8A8B557D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9630-EAF9-4096-8941-408ED04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CDB2-03AE-4CC0-9392-6679B51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BC8E-29F4-472C-8127-C10C143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3D1A-6A38-4176-B2DB-41C4861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84C4-860F-4EF0-80C4-1555EA56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3A4-FC41-4044-91C4-4A525918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A7E7-DBD4-46B5-B171-6280EA6A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64DD-DA65-41EB-BCD3-5137FA97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E845-B6A4-4CDD-8016-47A5403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311C-5E1A-4C70-A2F1-0461919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A287-1713-43EE-8A73-DFDE6CB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FCBC-A307-48EA-86CD-458D8346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3C81-4DAA-48B9-90FD-47A80E70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9BD7-E929-4B08-9168-71920B3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3F7B0-C8FA-4AB6-BCAF-89B8062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43899-F532-410D-868C-60518A1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36A-7D44-4C52-B4ED-6C1C12B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CAF0C-BF6B-4A97-9654-19919FA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8A19-FCE5-45A1-9D4D-3BBD8D4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E691-EBBB-4215-835D-613EDF4F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D50-EB4B-436A-B6E7-3753CE2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AD2-774D-4B14-943C-1DB00DF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8842-0BDC-4698-BCC5-67AB28DA436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41A-05DC-4F04-B855-53913AD077DB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3339-0B8D-4773-9F58-E309C1E5BCE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6D3-12EF-449C-A127-2C0D5CB5F0DC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8665-158B-41F4-AFF9-FA8904A8B4A0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E6A-6A91-48D3-8AA6-BBBC9DF6275A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61080" cy="3706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23640" y="4076280"/>
            <a:ext cx="8458200" cy="25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έτρος Π. Καριώτογλου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ιδαγωγική Σχολή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δακτικές – μαθησιακές ακολουθίες: συνέπεια και του αδιεξόδου των εναλλακτικών ιδεών μαθητών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ΠΕ στην εκπαίδευση ΦΕ: συνέπεια της τεχνολογικής εξέλιξ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γαστηριακή διδασκαλία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quir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ολιστική θεώρηση και έμφαση στις διαδικασί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ντέλα και Μοντελοποίηση στην εκπαίδευση των ΦΕ: ολιστική θεώρηση και πρόταση της ψυχολογία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λέτη διαλόγων, επιχειρηματολογία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umenta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και κατασκευής νοήματος στη διδασκαλία ΦΕ: διεύρυνση της κατανόησης + διαδικαστική γνώ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00040" y="571320"/>
            <a:ext cx="795816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ΙΣΤΟΡΙΚΑ ΔΙΑΜΟΡΦΩΜΕΝΑ ΡΕΥΜΑΤΑ ΤΗΣ ΔΙΔΑΚΤΙΚΗΣ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ΔΙΔΑΚΤΙΚΗ ΠΡΟΤΑ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ΚΠΑΙΔΕΥΤΙΚΗ ΠΟΛΙΤΙΚ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ΠΙΣΤΗΜΟΛΟΓΙΚΗ ΘΕΩΡΗΣΗ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1026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09040" cy="136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240" y="1714320"/>
            <a:ext cx="86295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υριαρχία του επιστημονικού περιεχομένου – Επιστήμη στο επίκεντρο της συζήτησης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είραμα ως επιβεβαίωση της θεωρία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ίδειξη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δακτικό Μοντέλο Μεταφοράς, ως συνέπεια των συμπεριφοριστικών απόψεων για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και Πράξη συγκλίνου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71320" y="571680"/>
            <a:ext cx="8001000" cy="564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πάλι βλέπει από τη μεριά της Επιστήμης / Επιστημόνων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tnik shock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ner &amp; Piage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… «ο μαθητής ως μικρός επιστήμονας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Curricula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μαθητής αρχίζει να μπαίνει στο επίκεντρο της συζήτησ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Θετικά σε συναισθηματικό και ψυχοκινητικό επίπεδο, θετικές στάσεις ως προς τις ΦΕ, αλλά πενιχρά γνωστικά αποτελέσματα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κπαιδευτική πράξη αποκλίνει από τη έρευνα και τη θεωρία – Παράγοντες που αιτιολογούν την απόκλιση (χρόνος, επιμόρφωση εκπαιδευτικών, …. ).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8760" y="642600"/>
            <a:ext cx="8143920" cy="56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δεύτερ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αυτή τη φορά κοιτάει προς τους μαθητές / τριε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1026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κίνημα των εναλλακτικών / διαισθητικών ιδεών: π.χ. «η κίνηση είναι αποτέλεσμα της δύναμης» και οι πολλαπλές και αποκλίνουσες απόπειρες αξιοποίησής τους στη διδασκαλία: εννοιολογική αλλαγή με γνωστική σύγκρουση, ενίσχυση των ιδεών, χρήση αναλογιών, γεφύρωση κλπ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μαθητής κατασκευάζει τη γνώση του ατομικά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aget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ή  κοινωνικά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gotski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ημαντική η επίδραση των Τεχνολογιών της Πληροφορίας και της Επικοινωνίας, ως εργαλείο αλλαγής των ιδεών των μαθητών 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Τα περισσότερα θετικά, αλλά μη γενικεύσιμ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Έρευνα τροφοδοτεί  την πράξη, αλλά η πράξη…. δύσκολα αλλάζει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ριτική στον εποικοδομητισμό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701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ό το κίνημ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(cience) T(echnology) S(ociety)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του 1960, και το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SE(nvironment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ις νεότερες απόψει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ια πρότασ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 Millar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: Βασικές έννοιες και Μοντέλα π.χ. Ηλιακό σύστημα, Στοιχεία της επιστημονικής μεθόδου, Στοιχεία εξέλιξης των ιδεών – εννοιών της επιστήμης, Επιπτώσεις στην κοινωνία.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υρίαρχο στοιχείο το δημοκρατικό επιχείρημα: σε μια τεχνολογική κοινωνία οι πολίτες πρέπει να είναι σε θέση να συμμετέχουν στη λήψη αποφάσεων για σχετικά θέματα: κλωνοποίηση, απόβλητα, ηλεκτρομαγνητική ακτινοβολία (κεραίες)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κλίνουσες τάσεις μεταξύ περιεχομένου και επιπτώσεων στην κοινωνί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σωτερικές αντιφάσεις των προτάσεων και μια πιθανή λύση: ανάλογα με τα τεχνολογικά μοντέλα η ανάδειξη αντίστοιχων διδακτικών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9T10:46:08Z</dcterms:modified>
  <cp:revision>167</cp:revision>
  <dc:subject/>
  <dc:title>Κρίσιμα Ερωτήματα</dc:title>
</cp:coreProperties>
</file>